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1011-81FC-4508-AEE4-3ABDD4892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38D8-097A-44A3-817A-E31D19F6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AAA7-C794-44FF-B979-FB3FAD773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0C32-FB40-4342-B9A4-F12F5F385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D241-D2C2-4A70-B018-985CD462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3C6B-FDD9-40F8-A7AA-702F8FDB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F33B-9525-4760-856E-0F4F38D9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B400-9634-4C34-990D-61F04960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AC2E-0A9C-4D54-870A-C5DDBED4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CB0B-D988-4023-91B2-C1E1A16D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7916-2276-40B0-875B-C0497D48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47D7-898E-47A1-A570-9C738328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B625-0613-4C89-9823-053C33960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58760" y="1936800"/>
            <a:ext cx="9610560" cy="2752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6609960" y="3781440"/>
            <a:ext cx="32655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Game Descrip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962440" y="3556080"/>
            <a:ext cx="3895560" cy="16095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50720" y="7061040"/>
            <a:ext cx="2486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1eaee"/>
                </a:solidFill>
                <a:latin typeface="Arial"/>
              </a:rPr>
              <a:t>Catch me if you c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05200" y="7061040"/>
            <a:ext cx="3841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1eaee"/>
                </a:solidFill>
                <a:latin typeface="Arial"/>
              </a:rPr>
              <a:t>Bergmeister, Kofler, Marschni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0720" y="833040"/>
            <a:ext cx="925848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Arial"/>
              </a:rPr>
              <a:t>Eigenschaften von Objekten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2600" y="2200320"/>
            <a:ext cx="905508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as sind Objekte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r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piel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erden als Punkte auf der Karte dargestell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esitzt einen Wirkungsbereich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rei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piel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ezieht sich auf die Größe des Spielfeldes (min. 2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ezieht sich auf die Größe des Spielfeldes (min. 5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0720" y="7061040"/>
            <a:ext cx="2486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Catch me if you c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05200" y="7061040"/>
            <a:ext cx="3841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Bergmeister, Kofler, Marschni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0720" y="833040"/>
            <a:ext cx="925848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Arial"/>
              </a:rPr>
              <a:t>Spielkarte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52600" y="2200320"/>
            <a:ext cx="9055080" cy="46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rei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öß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estimmt der eingestellte Radi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f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ig Bos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fios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ufträge (A – B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auptquarti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ize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hie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ffic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auptquarti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0720" y="7061040"/>
            <a:ext cx="2486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Catch me if you c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05200" y="7061040"/>
            <a:ext cx="3841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Bergmeister, Kofler, Marschni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560680" y="2846520"/>
            <a:ext cx="4965480" cy="1598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50720" y="7061040"/>
            <a:ext cx="2486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1eaee"/>
                </a:solidFill>
                <a:latin typeface="Arial"/>
              </a:rPr>
              <a:t>Catch me if you c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05200" y="7061040"/>
            <a:ext cx="3841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1eaee"/>
                </a:solidFill>
                <a:latin typeface="Arial"/>
              </a:rPr>
              <a:t>Bergmeister, Kofler, Marschni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9040" y="367920"/>
            <a:ext cx="92584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Arial"/>
              </a:rPr>
              <a:t>Struktur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0720" y="7061040"/>
            <a:ext cx="2486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Catch me if you c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05200" y="7061040"/>
            <a:ext cx="3841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Bergmeister, Kofler, Marschni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57160" y="1682640"/>
            <a:ext cx="85089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76720" y="923760"/>
            <a:ext cx="38448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Hauptmenü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0720" y="7061040"/>
            <a:ext cx="2486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Catch me if you c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05200" y="7061040"/>
            <a:ext cx="3841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Bergmeister, Kofler, Marschni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978200" y="1905120"/>
            <a:ext cx="610848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0720" y="1003320"/>
            <a:ext cx="92584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Spiel erstelle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031840" y="2147760"/>
            <a:ext cx="6096240" cy="4880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50720" y="7061040"/>
            <a:ext cx="2486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Catch me if you c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05200" y="7061040"/>
            <a:ext cx="3841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Bergmeister, Kofler, Marschni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9040" y="1240920"/>
            <a:ext cx="92584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Arial"/>
              </a:rPr>
              <a:t>Spiel beitreten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0720" y="7061040"/>
            <a:ext cx="2486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Catch me if you c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05200" y="7061040"/>
            <a:ext cx="3841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Bergmeister, Kofler, Marschni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031840" y="2147760"/>
            <a:ext cx="6096240" cy="48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0720" y="7061040"/>
            <a:ext cx="2486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Catch me if you c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05200" y="7061040"/>
            <a:ext cx="3841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Bergmeister, Kofler, Marschni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9040" y="1240920"/>
            <a:ext cx="92584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Arial"/>
              </a:rPr>
              <a:t>Spiel Channel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031840" y="2147760"/>
            <a:ext cx="6096240" cy="48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560680" y="3311640"/>
            <a:ext cx="4743360" cy="1303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50720" y="7061040"/>
            <a:ext cx="2486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1eaee"/>
                </a:solidFill>
                <a:latin typeface="Arial"/>
              </a:rPr>
              <a:t>Catch me if you c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05200" y="7061040"/>
            <a:ext cx="3841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1eaee"/>
                </a:solidFill>
                <a:latin typeface="Arial"/>
              </a:rPr>
              <a:t>Bergmeister, Kofler, Marschni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0720" y="833040"/>
            <a:ext cx="925848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Arial"/>
              </a:rPr>
              <a:t>Allgemeine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2600" y="2200320"/>
            <a:ext cx="905508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line Spiel für mobile Endgerät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utzt GP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Reines Multiplayer Spi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Kombination au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chnitzeljag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äuber und Gendar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fi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0720" y="7061040"/>
            <a:ext cx="2486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Catch me if you c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05200" y="7061040"/>
            <a:ext cx="3841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Bergmeister, Kofler, Marschni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8240" y="1003320"/>
            <a:ext cx="925812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Spielstar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2600" y="2200320"/>
            <a:ext cx="9055080" cy="44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neriert die Position der Hauptquartiere der Team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Zeichnet diese auf der Karte e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piele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hen zu ihren Hauptquartier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olizeichef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tzt eine bestimmte Anzahl von Agents auf der Kar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piel beginn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0720" y="7061040"/>
            <a:ext cx="2486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Catch me if you c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05200" y="7061040"/>
            <a:ext cx="3841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Bergmeister, Kofler, Marschni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19040" y="923400"/>
            <a:ext cx="9258480" cy="8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Arial"/>
              </a:rPr>
              <a:t>Aufgaben der Team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2600" y="2200320"/>
            <a:ext cx="9055080" cy="38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olizei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fiosi aufspüren und verhaft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ufspüre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4" marL="1714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chtkontan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14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ldung von Ag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erhafte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4" marL="1714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em sich ein Polizist eine bestimmte Zeit im Bereich eines Mafioso aufhä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fia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fträge ausführen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fiosi müssen ein Objekt von A nach B transportiere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0720" y="7061040"/>
            <a:ext cx="2486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Catch me if you c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05200" y="7061040"/>
            <a:ext cx="3841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Bergmeister, Kofler, Marschni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0720" y="833040"/>
            <a:ext cx="925848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Arial"/>
              </a:rPr>
              <a:t>Ereignisse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2600" y="2200320"/>
            <a:ext cx="9055080" cy="27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fioso wird gefass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lizei erhält Punk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fioso kann eine bestimmte Zeit lang keine Aufträge annehm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r muss zurück zum Hauptquarti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fioso erfüllt einen Auftrag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fia erhält Punk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0720" y="7061040"/>
            <a:ext cx="2486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Catch me if you c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05200" y="7061040"/>
            <a:ext cx="3841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Bergmeister, Kofler, Marschni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968480" y="3164040"/>
            <a:ext cx="5662800" cy="1598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0720" y="7061040"/>
            <a:ext cx="2486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1eaee"/>
                </a:solidFill>
                <a:latin typeface="Arial"/>
              </a:rPr>
              <a:t>Catch me if you c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05200" y="7061040"/>
            <a:ext cx="3841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1eaee"/>
                </a:solidFill>
                <a:latin typeface="Arial"/>
              </a:rPr>
              <a:t>Bergmeister, Kofler, Marschni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0720" y="833040"/>
            <a:ext cx="925848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Arial"/>
              </a:rPr>
              <a:t>Spieleinstellungen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2600" y="2200320"/>
            <a:ext cx="9055080" cy="43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iel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est F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uer um einen Mafioso zu fass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 m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eezetime eines Mafios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 m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nkteanzah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al Spieleranzah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6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zahl der Ag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dius des Spielfel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0720" y="7061040"/>
            <a:ext cx="2486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Catch me if you c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05200" y="7061040"/>
            <a:ext cx="3841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Bergmeister, Kofler, Marschni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0720" y="833040"/>
            <a:ext cx="925848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Arial"/>
              </a:rPr>
              <a:t>Big Boss erhält Auftrag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2600" y="2200320"/>
            <a:ext cx="905508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uftrag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hal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tehlen sie 10 Gewehre von Luigi und liefern sie die Ware bei Don Charly ab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r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0 Punkt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0720" y="7061040"/>
            <a:ext cx="2486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Catch me if you c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05200" y="7061040"/>
            <a:ext cx="3841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Bergmeister, Kofler, Marschni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0720" y="833040"/>
            <a:ext cx="925848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Arial"/>
              </a:rPr>
              <a:t>Big Boss verteilt die Aufträge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2600" y="2200320"/>
            <a:ext cx="9055080" cy="15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1. Auftrag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ani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di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0720" y="7061040"/>
            <a:ext cx="2486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Catch me if you c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05200" y="7061040"/>
            <a:ext cx="3841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Bergmeister, Kofler, Marschni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0720" y="833040"/>
            <a:ext cx="925848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Arial"/>
              </a:rPr>
              <a:t>Szenario 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2600" y="2200320"/>
            <a:ext cx="9055080" cy="29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ani und Andi holen die Ware ab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efinden sich auf dem Weg zum Übergabeor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erden jedoch von einem Agent gesichte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fficer verfolgt si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ani kann nicht entkommen und wird gefass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ndi entkomm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Resultat: Mission Fehlgeschlag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0720" y="7061040"/>
            <a:ext cx="2486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Catch me if you c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05200" y="7061040"/>
            <a:ext cx="3841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Bergmeister, Kofler, Marschni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0720" y="833040"/>
            <a:ext cx="925848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Arial"/>
              </a:rPr>
              <a:t>Karte aus Sicht der Mafiosi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031840" y="2147760"/>
            <a:ext cx="6096240" cy="48801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50720" y="7061040"/>
            <a:ext cx="2486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Catch me if you c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05200" y="7061040"/>
            <a:ext cx="3841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Bergmeister, Kofler, Marschni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18040" y="3067200"/>
            <a:ext cx="784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ui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727520" y="6162840"/>
            <a:ext cx="1339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n Car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45040" y="5210280"/>
            <a:ext cx="1181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g B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57440" y="3225960"/>
            <a:ext cx="784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68760" y="3781440"/>
            <a:ext cx="784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76800" y="3781440"/>
            <a:ext cx="784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3957480" y="3301920"/>
            <a:ext cx="1609920" cy="360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4592520" y="3406680"/>
            <a:ext cx="145116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978200" y="2136600"/>
            <a:ext cx="6108480" cy="48913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0720" y="833040"/>
            <a:ext cx="925848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Arial"/>
              </a:rPr>
              <a:t>Karte aus Sicht der Polizei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0720" y="7061040"/>
            <a:ext cx="2486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Catch me if you c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05200" y="7061040"/>
            <a:ext cx="3841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Bergmeister, Kofler, Marschni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18040" y="3067200"/>
            <a:ext cx="1022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061480" y="3940200"/>
            <a:ext cx="1022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fio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53080" y="5130720"/>
            <a:ext cx="1022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89560" y="5607000"/>
            <a:ext cx="1022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5302080" y="3787920"/>
            <a:ext cx="1070280" cy="9111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8061480" y="4336920"/>
            <a:ext cx="1022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6021360" y="3925800"/>
            <a:ext cx="1768680" cy="2127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6105600" y="4243320"/>
            <a:ext cx="1758960" cy="2127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5937120" y="4433760"/>
            <a:ext cx="26532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0720" y="833040"/>
            <a:ext cx="925848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Arial"/>
              </a:rPr>
              <a:t>Voraussetzungen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2600" y="2200320"/>
            <a:ext cx="9055080" cy="36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PS fähiges Handy oder PDA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lattformen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icrosoft .ne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nternetverbindung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P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SDP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SUP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0720" y="7061040"/>
            <a:ext cx="2486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Catch me if you c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05200" y="7061040"/>
            <a:ext cx="3841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Bergmeister, Kofler, Marschni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851120" y="2286000"/>
            <a:ext cx="6499080" cy="2244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50720" y="7061040"/>
            <a:ext cx="2486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1eaee"/>
                </a:solidFill>
                <a:latin typeface="Arial"/>
              </a:rPr>
              <a:t>Catch me if you c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05200" y="7061040"/>
            <a:ext cx="3841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1eaee"/>
                </a:solidFill>
                <a:latin typeface="Arial"/>
              </a:rPr>
              <a:t>Bergmeister, Kofler, Marschni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8240" y="685440"/>
            <a:ext cx="9258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Arial"/>
              </a:rPr>
              <a:t>Geplante Umsetzung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2600" y="2200320"/>
            <a:ext cx="9055080" cy="18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rver – Client Prinzip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Kommunikation im Spi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achrichten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 einzelne Spiele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 all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720" y="7061040"/>
            <a:ext cx="2486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Catch me if you c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05200" y="7061040"/>
            <a:ext cx="3841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Bergmeister, Kofler, Marschni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533600" y="2846520"/>
            <a:ext cx="7061040" cy="1598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0720" y="7061040"/>
            <a:ext cx="2486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1eaee"/>
                </a:solidFill>
                <a:latin typeface="Arial"/>
              </a:rPr>
              <a:t>Catch me if you c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05200" y="7061040"/>
            <a:ext cx="3841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1eaee"/>
                </a:solidFill>
                <a:latin typeface="Arial"/>
              </a:rPr>
              <a:t>Bergmeister, Kofler, Marschni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0720" y="833040"/>
            <a:ext cx="925848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Arial"/>
              </a:rPr>
              <a:t>Worum geht’s bei CMIYC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52600" y="2200320"/>
            <a:ext cx="905508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2 Team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fi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ührt Aufträge au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lizei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ereitelt Aufträge der Mafi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Ziel des Spiel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rreichung einer bestimmten Punkteanzah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0720" y="7061040"/>
            <a:ext cx="2486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Catch me if you c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05200" y="7061040"/>
            <a:ext cx="3841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Bergmeister, Kofler, Marschni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70240" y="2930400"/>
            <a:ext cx="3143160" cy="1600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50720" y="7061040"/>
            <a:ext cx="2486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1eaee"/>
                </a:solidFill>
                <a:latin typeface="Arial"/>
              </a:rPr>
              <a:t>Catch me if you c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05200" y="7061040"/>
            <a:ext cx="3841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1eaee"/>
                </a:solidFill>
                <a:latin typeface="Arial"/>
              </a:rPr>
              <a:t>Bergmeister, Kofler, Marschni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0720" y="833040"/>
            <a:ext cx="925848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Arial"/>
              </a:rPr>
              <a:t>Mafia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52600" y="2200320"/>
            <a:ext cx="9055080" cy="44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ig Bos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rhält Aufträge vom Serv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ergibt Aufträge an die Mafiosi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aktiviert Agent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fioso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rfüllt Missionen für den Big Bo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auptquartie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rtpunkt der Mafi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estandteil von Aufträg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0720" y="7061040"/>
            <a:ext cx="2486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Catch me if you c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05200" y="7061040"/>
            <a:ext cx="3841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Bergmeister, Kofler, Marschni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0720" y="833040"/>
            <a:ext cx="925848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Arial"/>
              </a:rPr>
              <a:t>Polizei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2600" y="2200320"/>
            <a:ext cx="9055080" cy="55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uptquar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punkt der Polizis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P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äher mit bestimmtem Überwachungsberei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ldet Aktivitäten an die gesamte Polize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zahl sowie Überwachungsbereich hängen von der Größe des Spielfeldes a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haftet Mafios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tzt Ag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ann Agents reaktivi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0720" y="7061040"/>
            <a:ext cx="2486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Catch me if you c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05200" y="7061040"/>
            <a:ext cx="3841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Arial"/>
              </a:rPr>
              <a:t>Bergmeister, Kofler, Marschni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